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CE73-13BD-4FE8-B1AB-D219DB5A5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AC93-3F61-4EDD-838B-1BE5D2281C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7F39-B157-4186-AD71-CE2B881AF0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77C0-DC8E-4419-A629-C2ECF11050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1A9B-274C-45C0-920E-7303CB3596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436C-8601-460D-A2A4-20626DE517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16AF-73A8-4015-BBA6-C6F3ADD5B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E5C-1B0C-45EB-AEE1-74F75D51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641-29B4-4EEE-86AC-74EBA8B8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B30-A1A2-40C2-8522-DB57FCCA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1EF-3B60-4C50-B822-BF902951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51E-50D0-4213-A64B-7F355439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8F6E5-4AAF-4D3F-B7C1-5B9E7E0B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27A2-2186-4053-BA92-6CDD46D6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5DCD-5C90-44D2-8CEC-270BF3B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5571-6FE2-49AA-81C2-A84CE44C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4914-E289-4F46-B6A9-AE010FE2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96E-03BB-4CE3-8BEA-3CD6BDAC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CE7C-141C-4E10-B97A-58A51641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FFED-95BB-4E82-9C66-745E9693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2394-CD04-48CF-8589-6757B89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D9FA-D73B-4BF3-B297-ABB4283E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042F-C5D2-48C3-A84A-428C68FF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A2F-1C19-42AF-AAAE-DEADB9F1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C29-89FA-4A8A-976A-B4AEB8B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2E8-33DB-4455-8C95-E8D53947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0607-1DF1-4414-AF59-5A185F0B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FCB-E71C-45E3-97B9-33064EF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397-D065-4689-A5AB-5DC1AFD1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08C-A642-44F6-AB12-71D09AF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9BC4-9898-4519-9FBC-570DF2A6A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0EC4-F2F2-4271-AE65-7A886EEAF7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ps &amp; Senate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How many members are in the Sen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971800" y="2705040"/>
            <a:ext cx="304812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is the term for a memb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1828800" y="2805120"/>
            <a:ext cx="485928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109440"/>
            <a:ext cx="573732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o is the Senate Majority Leader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3048120" y="3276720"/>
            <a:ext cx="27972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is the job of the Party WHIP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2209680" y="1905120"/>
            <a:ext cx="4195800" cy="41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position is next in line for the Presidency AFTER the speaker of the Hous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819520" y="3084480"/>
            <a:ext cx="331452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1T17:16:01Z</dcterms:modified>
  <cp:revision>131</cp:revision>
  <dc:subject/>
  <dc:title>D/O: TO EXPLAIN AND IDENTIFY PROBLEMS OF ECONOMICS</dc:title>
</cp:coreProperties>
</file>